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8DC-EE5D-4D64-B016-F8FC9AB5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591-9973-48D0-B5C8-08D6FF4F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E1C-C2F8-46F7-9BA2-9E9A2145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1A2-AA25-4CDA-99BA-71BE67A5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1554-25FE-4416-9F83-F4502C06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1C4E-421E-467D-A4B9-F6482E8A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B2E4-AEE2-4830-9EC4-5467B32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6C03-30CA-4F1D-B068-7E0FC7BF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B024-7FDE-4A8E-9CFB-5087E78F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250D-6EE3-4792-968A-D0A8A103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73B6-2D44-4DBA-9C88-59B80AF1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EBE-735D-4AF9-A92C-B1C7143F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EA0D-A55F-4F26-B19D-4CAA183C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2EA2-4167-42F4-9944-5CD44D3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49C5-1016-411B-8803-D17D9956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068-DA2D-492F-BDD4-D5C737FC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4092-8D7E-4369-A537-ECA115DE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79E-2FB8-4902-8254-42D468E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09A-D60A-46B4-B167-E9C9C1AF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B64-0189-4466-B188-F052BDE2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B01-9156-485E-9E7D-2EA52D3A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626-DBDB-4796-91C2-6EE6935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DFE-C395-427E-A0B4-BE00669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BE3-2BAF-4E96-ABC1-5D90289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D2C-7538-4A7D-B0A6-9B0C1E01A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473-CB48-4185-945D-AB982D584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Tex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7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ext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xt is used in multimedia projects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many way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-based trai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69040" y="1981080"/>
            <a:ext cx="3622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More Uses for Text in Multimedia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xt is also used in multimedia projects in these way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y on text for rules, “chat,” character descriptions, dialog, background story, and many more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al 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y on text for content, directions, feedback, and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os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ext to display information, directions, and descrip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Formatting Tex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rmatting text controls the way the text looks. You can choos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sizes and col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al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spac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spacing or spacing between individual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format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lining, shadow, superscript, subscript, watermarks, embossing, engraving, or 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wr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Font Technologi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Understanding font technologies can be important when creating multimedia projects. The most popular font technologies ar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ble font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script, TrueType, and Open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map fo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are not scalable but provide more control over the appearance of tex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uidelines for Using Fo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using many varying font styles in the same proje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possible, use fonts that come with both Windows and Mac 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bitmap fonts on critical areas such as buttons, titles, or headli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ore Tips for Using Fo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ancy or whimsical fonts sparingly for special effects or emphasi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paragraphs and line lengths shor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bold, italic, and underlining options sparingly for emphas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ore Guidelines for Using Fo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using text in all uppercase letter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ont, style options, size, and color consistentl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dequate contrast between text and background when choosing col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heck spelling and gramm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Formatting for Screen Displa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pply these guidelines to multimedia applications for display rather than to printed documents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your presentation on monitors in several siz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patterned backgroun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small amounts of text on each screen displ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for a presentation that will be viewed by a large group of people must be visible from the back of the roo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nteractive displays, use consistent placement of hypertext lin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1:39:28Z</dcterms:created>
  <dc:creator>Danielle Perkins</dc:creator>
  <dc:description/>
  <dc:language>en-US</dc:language>
  <cp:lastModifiedBy>GLENCOE</cp:lastModifiedBy>
  <dcterms:modified xsi:type="dcterms:W3CDTF">2003-01-04T01:01:55Z</dcterms:modified>
  <cp:revision>11</cp:revision>
  <dc:subject/>
  <dc:title>Chapter 7 Text</dc:title>
</cp:coreProperties>
</file>